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D128-05EA-4B8E-B0D2-C8904333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91A9-CBDD-4398-8487-1A0CF3B1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6BF9-9D02-480D-9498-E0976738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B107-ADE5-4E68-9423-24DEA1C62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60C8-21A7-4915-82FF-5929CCF4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7412-A038-47FA-8FFC-1499C9FE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F0CD-5B84-494C-B9C2-59777DA2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E543-6E01-40B1-BBA7-06A3679E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BE40-CF49-4ACE-BB7D-0F636152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0C72-D4EF-43F5-B5AF-8B5D49D9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16EF-43AE-4A7A-94D4-DC512B4A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442C-C639-48C3-8072-A75E8FFB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F3DC-1802-4F1C-A215-36F190F03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24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16360" y="5589720"/>
            <a:ext cx="1439640" cy="431640"/>
          </a:xfrm>
          <a:prstGeom prst="wedgeRectCallout">
            <a:avLst>
              <a:gd name="adj1" fmla="val 31699"/>
              <a:gd name="adj2" fmla="val -302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er I “edge” (new lighthouse requi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5805360"/>
            <a:ext cx="1295640" cy="432000"/>
          </a:xfrm>
          <a:prstGeom prst="wedgeRectCallout">
            <a:avLst>
              <a:gd name="adj1" fmla="val -141546"/>
              <a:gd name="adj2" fmla="val -1007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er II (existing lighthous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7:09:02Z</dcterms:created>
  <dc:creator>alialios</dc:creator>
  <dc:description/>
  <dc:language>en-US</dc:language>
  <cp:lastModifiedBy>alialios</cp:lastModifiedBy>
  <dcterms:modified xsi:type="dcterms:W3CDTF">2007-03-26T07:09:58Z</dcterms:modified>
  <cp:revision>2</cp:revision>
  <dc:subject/>
  <dc:title>Slide 1</dc:title>
</cp:coreProperties>
</file>